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media/image27.png" ContentType="image/png"/>
  <Override PartName="/ppt/media/image2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6E5-AAA2-4AB3-AF27-35F7AAC3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FA9-E4CE-4B4E-9FC3-2AD7AEA1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B72-CC87-48AA-8766-EB3CE983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D99-A006-4705-8E21-0C39A939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052E9-05CB-4F4A-9CB3-01665BC9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6D11F-22C3-4B74-8A1C-55427528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9F5BA-CADA-48BE-9219-8B3A6D2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6F5A3-98ED-40A1-BBA8-E52064C2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ADDC2-F012-4FB2-A053-654BB6FB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AB87D-7190-4007-9464-60DE9A06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64946-F02F-471F-96D8-820CCA82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74E-5DAA-4169-ACD6-53359A79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DA378-7573-4024-9335-5DA6F78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4729E-8492-4CE0-856E-A87C3859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FE084-C77D-4BFB-8413-ABF9655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A83A4-BE10-40F6-83AD-E66B9F0F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74ED4-0A69-4CF7-A332-9CF391A0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BA2C-450C-44ED-B4F4-38649BF6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6DB73-6415-444E-B877-2C109684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7758-95DA-4C39-A9D8-5ED65EC6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A799-D0B6-4A60-BCDC-EBB61C48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C580-4A94-4F7F-9425-F1BCF2B0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5D8-4684-444C-82E0-A6F5605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CB68-C27A-4647-B63C-E158311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4DD4-C6CF-4C38-B9AF-78D5E49A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0172-F4CF-4101-B5C8-75555769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0956-62C7-49B2-8350-B1250575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A877-5460-4A4D-888C-C07A403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9E03-06B6-4EE1-83AB-801B5079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D9F7-C198-4023-8FBB-3D941D15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2CAE0-4ADD-4D46-A634-B2440187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52FD98-A12B-40F4-A1B6-FE972106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6F40D-76E9-4879-8FA6-E02F38C2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4E0-7B87-4E8B-9619-0DFF92C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D792B-AEE3-487D-B663-15415B23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CB3C8-3392-40DD-9022-F0073020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2D17C7-A054-453C-AB19-87A18B80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5B6AC-1881-4DD3-9685-95C2664F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7B169-8C9F-490B-AA10-F51440A7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55316-0B83-42BC-A6B7-3A517ED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E849E-12F1-4314-BA03-260AA686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7EE90-5771-4EBF-A084-C799814D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C0816-A602-4268-A0C5-83F21C74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50C01-C665-4894-98DE-84B02EC6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717-759F-4014-87F0-C071B01A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1EA83-0338-457B-82CC-16C9F028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9F059-7010-4527-A4A3-0B96FD19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8BF81-8248-4BD6-829D-EF827E52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09D68-990A-4CC5-9E1B-CDFD35CE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93368-2AEF-47A3-8F0E-6FEF37D5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4F976-7504-4F8B-A12B-F4ABB9A8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3FC0E-0D4D-4E6C-99BE-9957A04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EDC1D-619E-4C5F-8387-CC14B7A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6D4D2-1132-4F19-9A74-230F55D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0CC4C-3A65-4C56-8DEE-2848E014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BF9-412A-425F-90EA-E076AC07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8644C-A52D-4975-9191-C2400168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2A5D4-7C18-4E67-BA36-FA20EF18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EF471-FE29-4626-AEB8-F0244E2D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7F2DB-48E0-4688-AD04-2EF7D192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532D7-D6A1-44AD-8054-B30B7D6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9653A-438E-4F81-BEA6-951BF364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8F61A-846C-490B-89F4-198FEE10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81A9E-308E-46DF-B3F5-E4F41BF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70658-F1A8-49CF-BE28-6F30726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1212B-4CF0-46A7-9EF6-881F2DEF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A96-E982-4D44-B801-9664DD1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352AC-C63B-4CDB-A23A-56296AF5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E3415-D1F7-4FD9-81CF-88A7FA0B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D8B46-76F7-4739-AF2C-72D65B11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114-9A0F-4D9D-A857-F6A1AAB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5F6-18E4-404A-80BA-1BDCA3B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3F6AB-5378-48ED-942C-F2A7A6F00B51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05127-628E-4EFE-A27F-CAD3A78D3D3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BBAE0-6921-4103-B7B1-6F767E277F95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5D5CC-1D73-4E89-BBCA-4DE83711330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16F55-EAFD-457A-A97F-8855A9EC1317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A1D57-E950-47BE-B0BA-2042C3A24BA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5F681-8CBE-4D76-929F-8D6703E32EA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CF0F4-5249-43D5-8B51-F05C1DBF8078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692F4-86DB-402A-B504-16D47A45C1F2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E56B8-80FF-44D7-AF17-A2BE8F24B97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71D74-87B0-4AA7-BB22-5ADF5B0C39B8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C8A7B-A453-4F8B-80A1-EED0EA07A3F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or: Frankie Padulo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ryan Hernandez, y Jace Hell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Mayans usaron el Puuc estilo en los edifici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Content Placeholder 6" descr="chichen-itza-ruins.jpg"/>
          <p:cNvPicPr/>
          <p:nvPr/>
        </p:nvPicPr>
        <p:blipFill>
          <a:blip r:embed="rId3"/>
          <a:srcRect l="0" t="-34449" r="0" b="-34449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s el centro de la ciuda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Content Placeholder 7" descr="chichenitza.jpg"/>
          <p:cNvPicPr/>
          <p:nvPr/>
        </p:nvPicPr>
        <p:blipFill>
          <a:blip r:embed="rId3"/>
          <a:srcRect l="0" t="-25078" r="0" b="-25078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s donde los Mayans compraban las cosas que necesitaba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Content Placeholder 8" descr="pilares_mercado_chichen_itza_m.jpg"/>
          <p:cNvPicPr/>
          <p:nvPr/>
        </p:nvPicPr>
        <p:blipFill>
          <a:blip r:embed="rId3"/>
          <a:srcRect l="0" t="-32325" r="0" b="-32325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 grupo de mil columnas es alrededor el Templo de Guerrer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Content Placeholder 6" descr="chichen-1000columns.jpg"/>
          <p:cNvPicPr/>
          <p:nvPr/>
        </p:nvPicPr>
        <p:blipFill>
          <a:blip r:embed="rId3"/>
          <a:srcRect l="0" t="-34467" r="0" b="-34467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Mayans estudiaron las estrellas en el observatori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Content Placeholder 6" descr="Chichen_Itza1.jpg"/>
          <p:cNvPicPr/>
          <p:nvPr/>
        </p:nvPicPr>
        <p:blipFill>
          <a:blip r:embed="rId3"/>
          <a:srcRect l="0" t="-94024" r="0" b="-94024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los jugaraban por sus vid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Content Placeholder 7" descr="ball-court-cc-weisserstier.jpg"/>
          <p:cNvPicPr/>
          <p:nvPr/>
        </p:nvPicPr>
        <p:blipFill>
          <a:blip r:embed="rId3"/>
          <a:srcRect l="-16838" t="0" r="-16838" b="0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ichen Itza era el mejor poderoso cuidad de Los May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Content Placeholder 8" descr="yucatan_peninsula_map.jpg"/>
          <p:cNvPicPr/>
          <p:nvPr/>
        </p:nvPicPr>
        <p:blipFill>
          <a:blip r:embed="rId3"/>
          <a:srcRect l="0" t="-19232" r="0" b="-19232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mayas hicieron un clase de soci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Content Placeholder 6" descr="Maya-society-Castes-as-in India.jpg"/>
          <p:cNvPicPr/>
          <p:nvPr/>
        </p:nvPicPr>
        <p:blipFill>
          <a:blip r:embed="rId3"/>
          <a:srcRect l="0" t="-24653" r="0" b="-24653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Mayas decidieron el siguiente emperador por una filosofía se llama nepotisimo o en inglés se llama nepotis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Content Placeholder 6" descr="mayans.gif"/>
          <p:cNvPicPr/>
          <p:nvPr/>
        </p:nvPicPr>
        <p:blipFill>
          <a:blip r:embed="rId3"/>
          <a:srcRect l="0" t="-34135" r="0" b="-34135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cuidades grandes de los Mayas tuvo un jefe suprem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Content Placeholder 6" descr="cozumel_chichen_itza_04.jpg"/>
          <p:cNvPicPr/>
          <p:nvPr/>
        </p:nvPicPr>
        <p:blipFill>
          <a:blip r:embed="rId3"/>
          <a:srcRect l="0" t="-30713" r="0" b="-30713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ladrónes en un crimen se hace “become” un siervo “servant” a la victim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Content Placeholder 6" descr="columns.jpg"/>
          <p:cNvPicPr/>
          <p:nvPr/>
        </p:nvPicPr>
        <p:blipFill>
          <a:blip r:embed="rId3"/>
          <a:srcRect l="0" t="-31027" r="0" b="-31027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los construieron Chichen Itza en los diez y once sigl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Content Placeholder 6" descr="cancun03_chichen_itza_construction.jpg"/>
          <p:cNvPicPr/>
          <p:nvPr/>
        </p:nvPicPr>
        <p:blipFill>
          <a:blip r:embed="rId3"/>
          <a:srcRect l="0" t="-25081" r="0" b="-25081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y personas que piensan que extraterrestres construieron Chichen Itz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Content Placeholder 6" descr="Alien-Facts.png"/>
          <p:cNvPicPr/>
          <p:nvPr/>
        </p:nvPicPr>
        <p:blipFill>
          <a:blip r:embed="rId3"/>
          <a:srcRect l="-35203" t="0" r="-35203" b="0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ichen Itza es un sitio anciano y esta abierta al publico 365 dias per an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Content Placeholder 8" descr="220px-Chichen_Itza_Temple_of_Kukulcan_Serpent.jpg"/>
          <p:cNvPicPr/>
          <p:nvPr/>
        </p:nvPicPr>
        <p:blipFill>
          <a:blip r:embed="rId3"/>
          <a:srcRect l="0" t="-25043" r="0" b="-25043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3:24:35Z</dcterms:created>
  <dc:creator>Kim Padulo</dc:creator>
  <dc:description/>
  <dc:language>en-US</dc:language>
  <cp:lastModifiedBy>Kim Padulo</cp:lastModifiedBy>
  <dcterms:modified xsi:type="dcterms:W3CDTF">2012-01-23T04:10:24Z</dcterms:modified>
  <cp:revision>4</cp:revision>
  <dc:subject/>
  <dc:title>Chichen Itza </dc:title>
</cp:coreProperties>
</file>